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804-7516-462F-B313-22BDE538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5A4-8600-4934-ADCA-12F8974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F16-2FB3-4834-9E59-288913C1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133-D1A2-473A-9763-58228C0E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38F-839C-474C-8B06-1FCC4D0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BC4-7B7D-4503-A538-B93CEDC4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953-1329-42B2-9D36-1EDD8B6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3A1-BA47-4C1D-8390-D8AF379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FBD-3668-4B08-9974-FBA56718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752-A83F-49DB-8089-EE2AE57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B8A-8E5C-4E4B-AF28-A893B81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4D7-08FA-4AD5-9324-AB95CE9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:\Documents and Settings\walterl\My Documents\My Pictures\Microsoft Clip Organizer\j0438794.jpg"/>
          <p:cNvPicPr/>
          <p:nvPr/>
        </p:nvPicPr>
        <p:blipFill>
          <a:blip r:embed="rId2"/>
          <a:srcRect l="10370" t="0" r="0" b="6251"/>
          <a:stretch/>
        </p:blipFill>
        <p:spPr>
          <a:xfrm>
            <a:off x="0" y="4071960"/>
            <a:ext cx="1606680" cy="2786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walterl\My Documents\My Pictures\Microsoft Clip Organizer\j0438794.jpg"/>
          <p:cNvPicPr/>
          <p:nvPr/>
        </p:nvPicPr>
        <p:blipFill>
          <a:blip r:embed="rId3"/>
          <a:srcRect l="10359" t="0" r="0" b="0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Candara"/>
              </a:rPr>
              <a:t>Click to edit the title text format</a:t>
            </a: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Click to edit the outline text format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con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Thir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our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if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ix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ven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35A0-C83A-4D03-8D96-B282C74B1171}" type="slidenum">
              <a:rPr b="0" lang="en-US" sz="1200" spc="-1" strike="noStrike">
                <a:solidFill>
                  <a:srgbClr val="4f6228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77933c"/>
                </a:solidFill>
                <a:latin typeface="Candara"/>
              </a:rPr>
              <a:t>                </a:t>
            </a:r>
            <a:r>
              <a:rPr b="1" i="1" lang="en-US" sz="2000" spc="-1" strike="noStrike">
                <a:solidFill>
                  <a:srgbClr val="4e8c77"/>
                </a:solidFill>
                <a:latin typeface="Candara"/>
              </a:rPr>
              <a:t>Beneficiile invatarii prin proiecte</a:t>
            </a:r>
            <a:r>
              <a:rPr b="1" i="1" lang="en-US" sz="4000" spc="-1" strike="noStrike">
                <a:solidFill>
                  <a:srgbClr val="77933c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696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03c5"/>
                </a:solidFill>
                <a:latin typeface="Candar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4e8c77"/>
                </a:solidFill>
                <a:latin typeface="Candara"/>
              </a:rPr>
              <a:t>ProiectuL  </a:t>
            </a:r>
            <a:r>
              <a:rPr b="1" i="1" lang="en-US" sz="4000" spc="-1" strike="noStrike">
                <a:solidFill>
                  <a:srgbClr val="4e8c77"/>
                </a:solidFill>
                <a:latin typeface="Candara"/>
              </a:rPr>
              <a:t>FOOD</a:t>
            </a:r>
            <a:r>
              <a:rPr b="1" lang="en-US" sz="4000" spc="-1" strike="noStrike">
                <a:solidFill>
                  <a:srgbClr val="4e8c77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andara"/>
              </a:rPr>
              <a:t>Grup Scolar Sanitar “Vasile Voiculescu” Oradea</a:t>
            </a: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Ce beneficii aduce elevilor aceasta metoda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de invatare si evaluare ? 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lucreze in echipa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colaboresze  si sa-si imparta sarcinil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devin constienti de propriile calitati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Abordand continuturile intr-un mod diferit, elevii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se implica si devin  responsabili de procesul lor de invatar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Formeaza deprinderi si abilitati necesare in viata de adult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</a:t>
            </a:r>
            <a:r>
              <a:rPr b="1" lang="en-US" sz="1800" spc="-1" strike="noStrike">
                <a:solidFill>
                  <a:srgbClr val="4e8c77"/>
                </a:solidFill>
                <a:latin typeface="Candara"/>
              </a:rPr>
              <a:t>Fiecare elev vine cu niste ingrediente (cunostintele, abilitatile dobandite, calitatile personale, dorinte de a realiza un proiect reusit) pe care, impreuna cu ceilalti, le adauga la “preparat”, astfel incat ca la sfarsit sa putem spune ca fiecare a (pre)gatit un fel de mancare inedit, si a invatat foarte multe din aceasta experienta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4776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0:14:57Z</dcterms:created>
  <dc:creator> craciun</dc:creator>
  <dc:description/>
  <cp:keywords/>
  <dc:language>en-US</dc:language>
  <cp:lastModifiedBy> craciun</cp:lastModifiedBy>
  <dcterms:modified xsi:type="dcterms:W3CDTF">2011-01-15T02:35:35Z</dcterms:modified>
  <cp:revision>4</cp:revision>
  <dc:subject/>
  <dc:title>Click to add title</dc:title>
</cp:coreProperties>
</file>